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F79-7F45-4743-B960-DC7D14AA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017-102A-4363-A950-C399E8E0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1489A-EF82-402C-9630-EC51A078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34EC2-8F49-4485-B6A9-C494DACA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3A6A2-26F5-4997-969A-E67880C1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C7D21-21C3-4668-80E7-E692792B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4DE2E-8405-4020-B9B5-C3D42836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33B44-6036-41B1-B3EA-14B7DAA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A1A31-BEBC-47D6-A16C-A5D3864A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0FBA2-D16C-4399-BC32-1A206666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107F3-A6EA-4621-8877-D9D9118B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F70A4-ADD7-4C62-A8B5-0E1D71AF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3FD-3315-4E10-AF36-B85005E1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DE7D9-62A9-44D8-909C-91D360C4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D6B6D-BAA6-4678-8F06-0A39161B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C7371-3CEC-4C26-8102-F85CDE97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627E6-97E0-4729-8335-C7D85660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4C74B-BD8E-4033-9BEF-09B3117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30C3A-5AD3-489A-B542-D8AF1DE3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319FD-1B06-42FE-B6EA-2B475D3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3E60B-9AFC-447C-BE50-CF3A5DBD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62A7B-9C35-4270-904A-35618150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06A07-0F3D-4440-B473-EC33CCF8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982-C3FC-429C-BB78-8D029A18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84B53-7794-403F-9B96-7A3EF377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AF341-AB31-4C27-8161-DAC8EBE8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B4A53-C262-465F-8DAF-0C3F4C5D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ABF0E-D96B-41A6-8FB6-C538CC5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68881-846B-42B9-BA91-15A6C8B7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F6CC6-FD98-40F4-B22E-04C70407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277D8-804E-45A0-BF59-320379E1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2D46B-7114-4CC5-ACB1-880457B5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2F5AC-96EE-4ACC-AD94-8D1C6F8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6F1C0-919C-4D26-8968-878358F1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BD61-0FB1-4D81-B543-E9DE1359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906A8-10AF-41B6-900E-FC59E04B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9E8E3-0742-43EE-8545-631D5995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A80DA-27A4-49F7-8CB5-4D59A085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C390F-0709-49B0-A030-726AA1E4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64235-5664-4770-8EA7-A0D3ED31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583C0-CD75-4513-972A-9A16DEBD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DCD93-6897-4581-8C15-73586ACF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7AD8E-7F05-4436-8803-4B626225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22792-B9C0-4752-B554-484C6700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A44E7-5B91-4936-9281-2C39892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82F-1F14-42B0-B0A1-C8858BD7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53B6E-DCD8-49D8-BC0C-B4345FB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124B3-EEF5-44B6-925D-DAA6047B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85AFF-BD91-4B6B-B4A5-BEA3816C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1F774-6351-4711-9079-E3F21936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11A6F-34E7-427D-AB74-2C4048F0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208E-0FE1-4628-B75B-BD37F6F2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1A14-7D94-45F1-93B4-C3B9F490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737B-EF6A-433A-B0D7-E6C7CA17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1ADD-3FBE-4D71-82B7-A1CF25FE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6684-73C8-4793-B21C-2E6A7A44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347-B9BD-4048-AF0D-4E0ED583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D139-AF3F-46B4-B664-C9190739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6E00-7939-45F7-9E7E-ED3EE4B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0E3F-7C64-496F-AEFA-36714703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2268-C81A-4E7D-B052-4C03F8F7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52D8-7626-4205-BC83-C46A5EE2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89C8-0B46-453F-89D6-DFA91850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BAC0E-CBD4-43E9-92AC-5EAE6DBB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BCAA-EBBC-4381-AE00-8E90A42A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ACB1D-5F1B-4D5F-A545-B03D003B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08E8-8C97-47E1-BE1F-D97C30E0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4C9-3E80-478A-8C4B-A8244182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383A-438B-4AC2-94D6-02056ECE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6613-2BE7-49C8-9D5F-EE5BF51F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37B0-ED47-41EB-8B08-70F94D12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306F-7D35-40A7-9763-D1F46AC5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157A-0C54-405A-9F6E-543A3DC4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92D0-3F46-490D-BC0D-A01DB7EF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B117-B250-49AD-A3CA-87A6A24E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61F9-0F00-4E23-80A1-423D29A2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CCF73-6718-44C8-AEB1-43A84F56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E3E4-3440-4532-AB54-BD5A87D0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11D-77E0-4AAB-97E6-72560109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BB78-822A-4DCA-9E8F-918DDCD2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2525-0D33-40C1-AAE1-0DCB2D76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993D-3BA4-4276-8179-643A3896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7F591-A5E1-4987-97AA-145E59DC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3D5F-A05C-45B0-A781-F32F46E3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EC857-9A88-42C6-86A3-E9288CAA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D2D9A-0523-4E14-A174-FAC3162E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A9E2-29D7-4E18-812C-E09A65F5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D27B0-B7C9-4309-BD43-9F8879B2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DFD12-9F7D-4ACF-B422-046C5A3F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BA5-A581-4D78-AC5A-1645DC8A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1425-7E55-4D06-840D-8A850148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D2C29-8F24-4160-8D41-A9FACB46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21721-5E2D-42AB-ACC1-567B47B3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EB69-8BCE-4B58-AECB-193A2C9B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95206-B162-4736-A249-2B88CAFA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19F91-FB48-4C41-BAC6-DFF4E74B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7AEDB-1F84-4714-A537-9C753A99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C5B13-0078-48BD-BB7E-7037651D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ABC0-7A62-41FF-B48E-513A0D6B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BD59F-EF5F-47DF-910D-B3D52240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D43-A983-4153-8411-76BDF835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9B2B8-0A64-4EAA-B113-B7A9A6E6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A5BFD-B966-43E5-BB47-8DFA6C4A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0BF73-2BE1-40A0-8263-8F5A626A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DC1A-006E-44B6-8E94-ABDA522F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A0AF0-00BA-48DC-9198-242DF991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6CBFB-12EE-48E8-A9B4-63DFBE18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1ED28-8896-4E3A-9EEA-5789D013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D4701-0C3E-481A-9DE2-378A0F5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F6E0D-7FDE-4F44-A11F-9F33B81E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0923A-9E35-4B09-BD42-D7E7280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E4E-91D1-421A-8A1F-0C9D5553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2A45D-06F0-4824-AADC-FE8577CB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18303-274F-4BF3-828D-B1CA3930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135B8-F2AB-42D3-9895-7D6EC6C4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EA830-C11F-42A0-B120-D025AA9F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D2AB0-EB2A-478C-A69F-FEBA5B99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74CC6-3068-4479-86AC-84865912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BABCE-7F05-4EBE-8F12-4DF33F2C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9E56B-7742-48F0-B500-87D6B67C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0BBB5-2C8F-466A-A715-6FE8E6F6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A9A9A-8AD7-41FC-ADCE-E3EDCA08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431-BE25-462A-91F7-E96BF516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31816-B03B-4B79-820E-70585BD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1A34A-DF66-4FCA-9085-1D6EBC73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DE269-D1C8-49EB-8EAF-9CAC92F1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2A15D-F2EF-4F7F-A3A3-4A73E090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9BE2D-C194-49BF-AE4A-82862A12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B7C06-84B6-4C86-9AED-5B760104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7A5D9-F756-4364-A5F7-6A32BF7B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D8602-A175-49C3-8D59-C6E55248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E14DD-55C0-43A3-9F00-89C29712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DFB1B-CCD6-4275-9EEC-F8C01636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99E-2803-4176-ACA3-7E0B8F8D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BD171-3F28-4A7E-BB50-9EBCA193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61934-8ADD-4C26-8649-BFB61280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5B08B-D5EB-4983-8FD7-F738AF73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11AD7-C688-4D88-BA7D-419E7C5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44C92-DA17-44AF-823B-74663FA4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296F3-F0E4-47F0-990C-30F69A64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97FED-ACC0-4B27-A0E4-9E342A56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C625F-C627-45D3-A568-06B6E6DA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378EE-51A1-467D-BD6D-B5AB8318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99104-AC7B-4E98-8408-BD746570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6F75-7CEE-44C7-A0F7-022FC124D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線接點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橢圓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橢圓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9D78-8A3B-497B-B63C-09A3B919A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0AC1-33A4-4427-A8F4-12F7966FD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線接點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橢圓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橢圓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4046-8902-4234-BA81-54D45F6810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接點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橢圓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388A-5111-4B55-BEC1-C6CBB658F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0C15-5727-413E-ACAA-B8D5BDD79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線接點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橢圓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橢圓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ACD0-F8B3-40E9-B820-0D1215964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接點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B567-A619-4716-871B-7C916E4A61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直線接點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線接點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橢圓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橢圓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341E-3DDC-45DA-A4D3-C6F36B294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B754-3222-457E-B5BB-45DDE95F4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64EB-9D9C-4E94-9B3D-F229C86503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線接點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橢圓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橢圓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1062-5EAD-44C7-8CB4-E6549947CC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1777;&#22577;&#38468;&#20214;102.5.31/4-ISP&#31684;&#20363;.doc" TargetMode="External"/><Relationship Id="rId2" Type="http://schemas.openxmlformats.org/officeDocument/2006/relationships/hyperlink" Target="file:///1-ISP&#31684;&#20363;.doc" TargetMode="External"/><Relationship Id="rId3" Type="http://schemas.openxmlformats.org/officeDocument/2006/relationships/hyperlink" Target="file:///&#31777;&#22577;&#38468;&#20214;102.5.31/5&#30701;&#26399;&#33287;&#26178;&#38291;&#34920;&#32317;&#34920;.doc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d16349"/>
                </a:solidFill>
                <a:latin typeface="Georgia"/>
              </a:rPr>
              <a:t>如何執行長短期目標</a:t>
            </a: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(ISP)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6" descr="untitled"/>
          <p:cNvPicPr/>
          <p:nvPr/>
        </p:nvPicPr>
        <p:blipFill>
          <a:blip r:embed="rId1"/>
          <a:stretch/>
        </p:blipFill>
        <p:spPr>
          <a:xfrm>
            <a:off x="1371600" y="2438280"/>
            <a:ext cx="6095880" cy="379116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7"/>
          <p:cNvSpPr/>
          <p:nvPr/>
        </p:nvSpPr>
        <p:spPr>
          <a:xfrm>
            <a:off x="5029200" y="1859040"/>
            <a:ext cx="39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愛立發展中心莊碧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533160" y="175248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健康維護目標設計與執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在相同活動中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滿足個別目標需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體能活動設計範例介紹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瑜珈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</a:rPr>
              <a:t>/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墊上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343080" y="458280"/>
            <a:ext cx="8381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spcBef>
                <a:spcPts val="726"/>
              </a:spcBef>
              <a:buClr>
                <a:srgbClr val="7b98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7b9899"/>
                </a:solidFill>
                <a:latin typeface="Georgia"/>
                <a:ea typeface="微軟正黑體"/>
              </a:rPr>
              <a:t>設計在「計畫性活動」中</a:t>
            </a:r>
            <a:r>
              <a:rPr b="1" lang="en-US" sz="2900" spc="-1" strike="noStrike">
                <a:solidFill>
                  <a:srgbClr val="7b9899"/>
                </a:solidFill>
                <a:latin typeface="Georgia"/>
                <a:ea typeface="微軟正黑體"/>
              </a:rPr>
              <a:t>—</a:t>
            </a:r>
            <a:r>
              <a:rPr b="1" lang="zh-TW" sz="2900" spc="-1" strike="noStrike">
                <a:solidFill>
                  <a:srgbClr val="7b9899"/>
                </a:solidFill>
                <a:latin typeface="Georgia"/>
                <a:ea typeface="微軟正黑體"/>
              </a:rPr>
              <a:t>體能活動設計範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7b9899"/>
                </a:solidFill>
                <a:latin typeface="Georgia"/>
              </a:rPr>
              <a:t>在相同活動中</a:t>
            </a: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—</a:t>
            </a:r>
            <a:r>
              <a:rPr b="0" lang="zh-TW" sz="3200" spc="-1" strike="noStrike">
                <a:solidFill>
                  <a:srgbClr val="7b9899"/>
                </a:solidFill>
                <a:latin typeface="Georgia"/>
              </a:rPr>
              <a:t>滿足個別目標需求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1754280" y="2057400"/>
            <a:ext cx="83808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Arial"/>
              </a:rPr>
              <a:t>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Arial"/>
              </a:rPr>
              <a:t>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Arial"/>
              </a:rPr>
              <a:t>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2971800" y="2097000"/>
            <a:ext cx="5329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22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目標一、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增加肌力及肌耐力（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憲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偉、慧、吉、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2971800" y="2825640"/>
            <a:ext cx="5076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目標二、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增加身體柔軟度（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憲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偉、慧、吉、欣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2992320" y="3581280"/>
            <a:ext cx="4703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22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目標三、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增加核心肌群及下肢肌力、耐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3"/>
          <p:cNvSpPr/>
          <p:nvPr/>
        </p:nvSpPr>
        <p:spPr>
          <a:xfrm>
            <a:off x="3014640" y="4343400"/>
            <a:ext cx="3657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22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目標四、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核心肌群之肌力訓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4"/>
          <p:cNvSpPr/>
          <p:nvPr/>
        </p:nvSpPr>
        <p:spPr>
          <a:xfrm>
            <a:off x="3014640" y="5181480"/>
            <a:ext cx="3657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目標五、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增加背部肌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8077320" y="3610080"/>
            <a:ext cx="914400" cy="26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9"/>
          <p:cNvSpPr/>
          <p:nvPr/>
        </p:nvSpPr>
        <p:spPr>
          <a:xfrm>
            <a:off x="436680" y="2057400"/>
            <a:ext cx="914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1"/>
          <p:cNvSpPr/>
          <p:nvPr/>
        </p:nvSpPr>
        <p:spPr>
          <a:xfrm>
            <a:off x="560880" y="1918080"/>
            <a:ext cx="66780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團體活動計劃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2"/>
          <p:cNvSpPr/>
          <p:nvPr/>
        </p:nvSpPr>
        <p:spPr>
          <a:xfrm>
            <a:off x="135108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3"/>
          <p:cNvSpPr/>
          <p:nvPr/>
        </p:nvSpPr>
        <p:spPr>
          <a:xfrm>
            <a:off x="2592360" y="2413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4"/>
          <p:cNvSpPr/>
          <p:nvPr/>
        </p:nvSpPr>
        <p:spPr>
          <a:xfrm>
            <a:off x="2592360" y="312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5"/>
          <p:cNvSpPr/>
          <p:nvPr/>
        </p:nvSpPr>
        <p:spPr>
          <a:xfrm>
            <a:off x="259236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6"/>
          <p:cNvSpPr/>
          <p:nvPr/>
        </p:nvSpPr>
        <p:spPr>
          <a:xfrm>
            <a:off x="2603520" y="46562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7"/>
          <p:cNvSpPr/>
          <p:nvPr/>
        </p:nvSpPr>
        <p:spPr>
          <a:xfrm>
            <a:off x="2592360" y="5462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5"/>
          <p:cNvSpPr/>
          <p:nvPr/>
        </p:nvSpPr>
        <p:spPr>
          <a:xfrm>
            <a:off x="653760" y="5283360"/>
            <a:ext cx="4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a3d6"/>
                </a:solidFill>
                <a:latin typeface="BatangChe"/>
                <a:ea typeface="BatangChe"/>
              </a:rPr>
              <a:t>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6"/>
          <p:cNvSpPr/>
          <p:nvPr/>
        </p:nvSpPr>
        <p:spPr>
          <a:xfrm>
            <a:off x="1933200" y="5302080"/>
            <a:ext cx="4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a3d6"/>
                </a:solidFill>
                <a:latin typeface="BatangChe"/>
                <a:ea typeface="BatangChe"/>
              </a:rPr>
              <a:t>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字方塊 7"/>
          <p:cNvSpPr/>
          <p:nvPr/>
        </p:nvSpPr>
        <p:spPr>
          <a:xfrm>
            <a:off x="2897280" y="1611360"/>
            <a:ext cx="42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健康維護領域</a:t>
            </a:r>
            <a:r>
              <a:rPr b="1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-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執行物理治療目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2"/>
          <p:cNvSpPr/>
          <p:nvPr/>
        </p:nvSpPr>
        <p:spPr>
          <a:xfrm>
            <a:off x="7721280" y="5788080"/>
            <a:ext cx="4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a3d6"/>
                </a:solidFill>
                <a:latin typeface="BatangChe"/>
                <a:ea typeface="BatangChe"/>
              </a:rPr>
              <a:t>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7b9899"/>
                </a:solidFill>
                <a:latin typeface="Georgia"/>
              </a:rPr>
              <a:t>在相同活動中</a:t>
            </a: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—</a:t>
            </a:r>
            <a:r>
              <a:rPr b="0" lang="zh-TW" sz="3200" spc="-1" strike="noStrike">
                <a:solidFill>
                  <a:srgbClr val="7b9899"/>
                </a:solidFill>
                <a:latin typeface="Georgia"/>
              </a:rPr>
              <a:t>滿足個別目標需求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1754280" y="2057400"/>
            <a:ext cx="83808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Arial"/>
              </a:rPr>
              <a:t>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Arial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Arial"/>
              </a:rPr>
              <a:t>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Arial"/>
              </a:rPr>
              <a:t>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2971800" y="1828800"/>
            <a:ext cx="449568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22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目標一、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獲得當小老師工作的安排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  <a:ea typeface="Times New Roman"/>
              </a:rPr>
              <a:t>社會技能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新細明體"/>
                <a:ea typeface="Times New Roman"/>
              </a:rPr>
              <a:t>蕙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、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2971800" y="2825640"/>
            <a:ext cx="4495680" cy="8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目標二、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獲得空閒時當班級小幫手的機會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  <a:ea typeface="Times New Roman"/>
              </a:rPr>
              <a:t>社會技能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-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昕、智、偉、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2992320" y="3886200"/>
            <a:ext cx="5056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目標三、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參與體能活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  <a:ea typeface="Times New Roman"/>
              </a:rPr>
              <a:t>健康維護</a:t>
            </a:r>
            <a:r>
              <a:rPr b="0" lang="en-US" sz="1600" spc="-1" strike="noStrike">
                <a:solidFill>
                  <a:srgbClr val="ff0000"/>
                </a:solidFill>
                <a:latin typeface="新細明體"/>
                <a:ea typeface="Times New Roman"/>
              </a:rPr>
              <a:t>-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渟、蕙、</a:t>
            </a:r>
            <a:r>
              <a:rPr b="0" lang="zh-TW" sz="1600" spc="-1" strike="noStrike">
                <a:solidFill>
                  <a:srgbClr val="ff0000"/>
                </a:solidFill>
                <a:latin typeface="新細明體"/>
                <a:ea typeface="Times New Roman"/>
              </a:rPr>
              <a:t>憲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、毅、吉、智 、偉、昕</a:t>
            </a:r>
            <a:r>
              <a:rPr b="1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7"/>
          <p:cNvSpPr/>
          <p:nvPr/>
        </p:nvSpPr>
        <p:spPr>
          <a:xfrm>
            <a:off x="2971800" y="5165640"/>
            <a:ext cx="411480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服務紀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9"/>
          <p:cNvSpPr/>
          <p:nvPr/>
        </p:nvSpPr>
        <p:spPr>
          <a:xfrm>
            <a:off x="436680" y="2057400"/>
            <a:ext cx="914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560880" y="1918080"/>
            <a:ext cx="66780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團體活動計劃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>
            <a:off x="135108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2592360" y="2413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4"/>
          <p:cNvSpPr/>
          <p:nvPr/>
        </p:nvSpPr>
        <p:spPr>
          <a:xfrm>
            <a:off x="2592360" y="312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5"/>
          <p:cNvSpPr/>
          <p:nvPr/>
        </p:nvSpPr>
        <p:spPr>
          <a:xfrm>
            <a:off x="259236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"/>
          <p:cNvSpPr/>
          <p:nvPr/>
        </p:nvSpPr>
        <p:spPr>
          <a:xfrm>
            <a:off x="1933200" y="5165640"/>
            <a:ext cx="4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a3d6"/>
                </a:solidFill>
                <a:latin typeface="BatangChe"/>
                <a:ea typeface="BatangChe"/>
              </a:rPr>
              <a:t>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2"/>
          <p:cNvSpPr/>
          <p:nvPr/>
        </p:nvSpPr>
        <p:spPr>
          <a:xfrm>
            <a:off x="6045120" y="5359320"/>
            <a:ext cx="4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a3d6"/>
                </a:solidFill>
                <a:latin typeface="BatangChe"/>
                <a:ea typeface="BatangChe"/>
              </a:rPr>
              <a:t>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7b9899"/>
                </a:solidFill>
                <a:latin typeface="Georgia"/>
              </a:rPr>
              <a:t>問題與討論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0" name="Picture 4" descr="MCj04179260000[1]"/>
          <p:cNvPicPr/>
          <p:nvPr/>
        </p:nvPicPr>
        <p:blipFill>
          <a:blip r:embed="rId1"/>
          <a:stretch/>
        </p:blipFill>
        <p:spPr>
          <a:xfrm>
            <a:off x="1219320" y="1752480"/>
            <a:ext cx="6629400" cy="43084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5"/>
          <p:cNvSpPr/>
          <p:nvPr/>
        </p:nvSpPr>
        <p:spPr>
          <a:xfrm>
            <a:off x="3689640" y="3276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請多指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7b9899"/>
                </a:solidFill>
                <a:latin typeface="Georgia"/>
              </a:rPr>
              <a:t>執行成人</a:t>
            </a: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ISP</a:t>
            </a:r>
            <a:r>
              <a:rPr b="0" lang="zh-TW" sz="4000" spc="-1" strike="noStrike">
                <a:solidFill>
                  <a:srgbClr val="7b9899"/>
                </a:solidFill>
                <a:latin typeface="Georgia"/>
              </a:rPr>
              <a:t>短期目標的技巧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0" name="Picture 5" descr="MPj04373620000[1]"/>
          <p:cNvPicPr/>
          <p:nvPr/>
        </p:nvPicPr>
        <p:blipFill>
          <a:blip r:embed="rId1"/>
          <a:stretch/>
        </p:blipFill>
        <p:spPr>
          <a:xfrm>
            <a:off x="152280" y="1371600"/>
            <a:ext cx="8801280" cy="5334120"/>
          </a:xfrm>
          <a:prstGeom prst="rect">
            <a:avLst/>
          </a:prstGeom>
          <a:ln w="0">
            <a:noFill/>
          </a:ln>
        </p:spPr>
      </p:pic>
      <p:sp>
        <p:nvSpPr>
          <p:cNvPr id="611" name="矩形 1"/>
          <p:cNvSpPr/>
          <p:nvPr/>
        </p:nvSpPr>
        <p:spPr>
          <a:xfrm>
            <a:off x="1066680" y="4191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將短期目標規劃於日常作息及特殊活動中執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目標、時間及人力安排的設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執行短期目標的策略及文書記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4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將多人不同的短期目標在相同活動中執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將短期目標規劃於日常作息及特殊活動中執行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76212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2060"/>
                </a:solidFill>
                <a:latin typeface="新細明體"/>
              </a:rPr>
              <a:t>個別化服務計畫</a:t>
            </a:r>
            <a:r>
              <a:rPr b="1" lang="en-US" sz="2700" spc="-1" strike="noStrike">
                <a:solidFill>
                  <a:srgbClr val="002060"/>
                </a:solidFill>
                <a:latin typeface="新細明體"/>
              </a:rPr>
              <a:t>ISP</a:t>
            </a:r>
            <a:r>
              <a:rPr b="1" lang="zh-TW" sz="2700" spc="-1" strike="noStrike">
                <a:solidFill>
                  <a:srgbClr val="002060"/>
                </a:solidFill>
                <a:latin typeface="新細明體"/>
              </a:rPr>
              <a:t>範例說明</a:t>
            </a:r>
            <a:r>
              <a:rPr b="0" lang="zh-TW" sz="2700" spc="-1" strike="noStrike" u="sng">
                <a:solidFill>
                  <a:srgbClr val="00a3d6"/>
                </a:solidFill>
                <a:uFillTx/>
                <a:latin typeface="新細明體"/>
                <a:hlinkClick r:id="rId1"/>
              </a:rPr>
              <a:t>→</a:t>
            </a:r>
            <a:r>
              <a:rPr b="0" lang="zh-TW" sz="2700" spc="-1" strike="noStrike" u="sng">
                <a:solidFill>
                  <a:srgbClr val="00a3d6"/>
                </a:solidFill>
                <a:uFillTx/>
                <a:latin typeface="新細明體"/>
                <a:hlinkClick r:id="rId2"/>
              </a:rPr>
              <a:t>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2060"/>
                </a:solidFill>
                <a:latin typeface="新細明體"/>
              </a:rPr>
              <a:t>短期目標結合活動作息一覽表</a:t>
            </a:r>
            <a:r>
              <a:rPr b="0" lang="zh-TW" sz="2700" spc="-1" strike="noStrike" u="sng">
                <a:solidFill>
                  <a:srgbClr val="00a3d6"/>
                </a:solidFill>
                <a:uFillTx/>
                <a:latin typeface="新細明體"/>
                <a:hlinkClick r:id="rId3"/>
              </a:rPr>
              <a:t>→</a:t>
            </a:r>
            <a:r>
              <a:rPr b="1" lang="zh-TW" sz="2700" spc="-1" strike="noStrike">
                <a:solidFill>
                  <a:srgbClr val="002060"/>
                </a:solidFill>
                <a:latin typeface="新細明體"/>
              </a:rPr>
              <a:t>②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2060"/>
                </a:solidFill>
                <a:latin typeface="新細明體"/>
              </a:rPr>
              <a:t>活動作息表</a:t>
            </a:r>
            <a:r>
              <a:rPr b="1" lang="en-US" sz="2700" spc="-1" strike="noStrike">
                <a:solidFill>
                  <a:srgbClr val="002060"/>
                </a:solidFill>
                <a:latin typeface="新細明體"/>
              </a:rPr>
              <a:t>(</a:t>
            </a:r>
            <a:r>
              <a:rPr b="1" lang="zh-TW" sz="2700" spc="-1" strike="noStrike">
                <a:solidFill>
                  <a:srgbClr val="002060"/>
                </a:solidFill>
                <a:latin typeface="新細明體"/>
              </a:rPr>
              <a:t>範例</a:t>
            </a:r>
            <a:r>
              <a:rPr b="1" lang="en-US" sz="2700" spc="-1" strike="noStrike">
                <a:solidFill>
                  <a:srgbClr val="002060"/>
                </a:solidFill>
                <a:latin typeface="新細明體"/>
              </a:rPr>
              <a:t>)</a:t>
            </a:r>
            <a:r>
              <a:rPr b="1" lang="zh-TW" sz="2700" spc="-1" strike="noStrike">
                <a:solidFill>
                  <a:srgbClr val="002060"/>
                </a:solidFill>
                <a:latin typeface="新細明體"/>
              </a:rPr>
              <a:t> →  </a:t>
            </a:r>
            <a:r>
              <a:rPr b="1" lang="zh-TW" sz="2700" spc="-1" strike="noStrike">
                <a:solidFill>
                  <a:srgbClr val="00a3d6"/>
                </a:solidFill>
                <a:latin typeface="BatangChe"/>
                <a:ea typeface="BatangChe"/>
              </a:rPr>
              <a:t>③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目標、時間及人力安排的設計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新細明體"/>
              </a:rPr>
              <a:t>一、短期目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新細明體"/>
              </a:rPr>
              <a:t>               →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服務期程多久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(3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個月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半年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一年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新細明體"/>
              </a:rPr>
              <a:t>               →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服務頻率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每天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每周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每月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每年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2700" spc="-1" strike="noStrike">
                <a:solidFill>
                  <a:srgbClr val="000000"/>
                </a:solidFill>
                <a:latin typeface="新細明體"/>
              </a:rPr>
              <a:t>→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服務情境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例行作息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計畫性活動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社區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在家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其他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新細明體"/>
              </a:rPr>
              <a:t>                →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服務人力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教保員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治療師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助理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志工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二、服務策略選擇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參考附件表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700" spc="-1" strike="noStrike">
                <a:solidFill>
                  <a:srgbClr val="002060"/>
                </a:solidFill>
                <a:latin typeface="新細明體"/>
              </a:rPr>
              <a:t> →</a:t>
            </a:r>
            <a:r>
              <a:rPr b="1" lang="zh-TW" sz="2700" spc="-1" strike="noStrike">
                <a:solidFill>
                  <a:srgbClr val="00a3d6"/>
                </a:solidFill>
                <a:latin typeface="BatangChe"/>
                <a:ea typeface="BatangChe"/>
              </a:rPr>
              <a:t>④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(</a:t>
            </a:r>
            <a:r>
              <a:rPr b="1" lang="zh-TW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三</a:t>
            </a:r>
            <a:r>
              <a:rPr b="1" lang="en-US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)</a:t>
            </a:r>
            <a:r>
              <a:rPr b="1" lang="zh-TW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執行短期目標策略</a:t>
            </a:r>
            <a:r>
              <a:rPr b="1" lang="en-US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-</a:t>
            </a:r>
            <a:r>
              <a:rPr b="1" lang="zh-TW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教案範例介紹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837720" y="2057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Georgia"/>
              </a:rPr>
              <a:t>設計在「例行作息」情境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Georgia"/>
              </a:rPr>
              <a:t>設計在「計畫性活動」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不同目標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計在相同活動中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主題活動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相同的目標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計在不同活動中實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7b9899"/>
                </a:solidFill>
                <a:latin typeface="Georgia"/>
              </a:rPr>
              <a:t>設計在「例行作息」情境中</a:t>
            </a:r>
            <a:r>
              <a:rPr b="1" lang="en-US" sz="2900" spc="-1" strike="noStrike">
                <a:solidFill>
                  <a:srgbClr val="7b9899"/>
                </a:solidFill>
                <a:latin typeface="Georgia"/>
              </a:rPr>
              <a:t>-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居家生活領域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57200" y="1676520"/>
          <a:ext cx="8229600" cy="3522600"/>
        </p:xfrm>
        <a:graphic>
          <a:graphicData uri="http://schemas.openxmlformats.org/drawingml/2006/table">
            <a:tbl>
              <a:tblPr/>
              <a:tblGrid>
                <a:gridCol w="1219320"/>
                <a:gridCol w="2819160"/>
                <a:gridCol w="838440"/>
                <a:gridCol w="1218960"/>
                <a:gridCol w="2133720"/>
              </a:tblGrid>
              <a:tr h="869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目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短期目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標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記錄方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◎</a:t>
                      </a: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加強如廁後衛生清潔的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大便後會完成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份擦拭屁股的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例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作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如廁時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撰寫「工作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析記錄表」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行訓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會使用肥皂洗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例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作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午餐前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7b9899"/>
                </a:solidFill>
                <a:latin typeface="Georgia"/>
              </a:rPr>
              <a:t>設計在「例行作息」情境中</a:t>
            </a:r>
            <a:r>
              <a:rPr b="1" lang="en-US" sz="2900" spc="-1" strike="noStrike">
                <a:solidFill>
                  <a:srgbClr val="7b9899"/>
                </a:solidFill>
                <a:latin typeface="Georgia"/>
              </a:rPr>
              <a:t>--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健康維護領域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457200" y="1506600"/>
          <a:ext cx="8077320" cy="4589280"/>
        </p:xfrm>
        <a:graphic>
          <a:graphicData uri="http://schemas.openxmlformats.org/drawingml/2006/table">
            <a:tbl>
              <a:tblPr/>
              <a:tblGrid>
                <a:gridCol w="990720"/>
                <a:gridCol w="3352680"/>
                <a:gridCol w="762120"/>
                <a:gridCol w="1218960"/>
                <a:gridCol w="1752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目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短期目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分標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記錄方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1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◎</a:t>
                      </a: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維持規律的運動習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參與公園行走的活動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(30</a:t>
                      </a: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每日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例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作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戶外運動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撰寫「例行服務記錄表」進行服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參與「個人健身」運動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項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(/30</a:t>
                      </a: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每週一次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例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作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個人健身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參與減重小組運動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跑步機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/30</a:t>
                      </a: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1" lang="zh-TW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每週三次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例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作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晨間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Georgia"/>
                <a:ea typeface="標楷體"/>
              </a:rPr>
              <a:t>活動設計→不同目標設計在主題活動中進行</a:t>
            </a:r>
            <a:br>
              <a:rPr sz="2500"/>
            </a:br>
            <a:r>
              <a:rPr b="1" lang="zh-TW" sz="2500" spc="-1" strike="noStrike">
                <a:solidFill>
                  <a:srgbClr val="000000"/>
                </a:solidFill>
                <a:latin typeface="Georgia"/>
                <a:ea typeface="標楷體"/>
              </a:rPr>
              <a:t>                     短期目標分散在不同領域中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762120" y="1981080"/>
            <a:ext cx="144756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2556000" y="1447920"/>
            <a:ext cx="47592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TW" sz="1800" spc="-1" strike="noStrike">
                <a:solidFill>
                  <a:srgbClr val="ff3300"/>
                </a:solidFill>
                <a:latin typeface="Arial"/>
              </a:rPr>
              <a:t>人際溝通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1800" spc="-1" strike="noStrike">
                <a:solidFill>
                  <a:srgbClr val="000000"/>
                </a:solidFill>
                <a:latin typeface="Georgia"/>
              </a:rPr>
              <a:t>會在適當情境中使用活動圖卡回答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1" lang="zh-TW" sz="1800" spc="-1" strike="noStrike">
                <a:solidFill>
                  <a:srgbClr val="000000"/>
                </a:solidFill>
                <a:latin typeface="Georgia"/>
              </a:rPr>
              <a:t>會清楚回答他人的問話，使對方聽懂意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2595600" y="3584520"/>
            <a:ext cx="471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800" spc="-1" strike="noStrike">
                <a:solidFill>
                  <a:srgbClr val="ff0000"/>
                </a:solidFill>
                <a:latin typeface="Arial"/>
              </a:rPr>
              <a:t>居家生活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會看圖卡用貝氏刷牙法刷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會正確用肥皂洗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2600280" y="4648320"/>
            <a:ext cx="471492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800" spc="-1" strike="noStrike">
                <a:solidFill>
                  <a:srgbClr val="ff0000"/>
                </a:solidFill>
                <a:latin typeface="Arial"/>
              </a:rPr>
              <a:t>實用學科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lang="zh-TW" sz="1800" spc="-1" strike="noStrike">
                <a:solidFill>
                  <a:srgbClr val="000000"/>
                </a:solidFill>
                <a:latin typeface="Georgia"/>
              </a:rPr>
              <a:t>會辦識男女廁所圖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1" lang="zh-TW" sz="1800" spc="-1" strike="noStrike">
                <a:solidFill>
                  <a:srgbClr val="000000"/>
                </a:solidFill>
                <a:latin typeface="Georgia"/>
              </a:rPr>
              <a:t>會完成錢幣配對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(1/5/10</a:t>
            </a:r>
            <a:r>
              <a:rPr b="1" lang="zh-TW" sz="1800" spc="-1" strike="noStrike">
                <a:solidFill>
                  <a:srgbClr val="000000"/>
                </a:solidFill>
                <a:latin typeface="Georgia"/>
              </a:rPr>
              <a:t>元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字方塊 2"/>
          <p:cNvSpPr/>
          <p:nvPr/>
        </p:nvSpPr>
        <p:spPr>
          <a:xfrm>
            <a:off x="2567160" y="2590920"/>
            <a:ext cx="4748040" cy="916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TW" sz="1800" spc="-1" strike="noStrike">
                <a:solidFill>
                  <a:srgbClr val="ff0000"/>
                </a:solidFill>
                <a:latin typeface="Arial"/>
              </a:rPr>
              <a:t>社會技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.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遇到問題時會主動尋求協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.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會使用適當禮貌用語與人打招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字方塊 4"/>
          <p:cNvSpPr/>
          <p:nvPr/>
        </p:nvSpPr>
        <p:spPr>
          <a:xfrm>
            <a:off x="2627280" y="5638680"/>
            <a:ext cx="4687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TW" sz="1800" spc="-1" strike="noStrike">
                <a:solidFill>
                  <a:srgbClr val="ff0000"/>
                </a:solidFill>
                <a:latin typeface="Arial"/>
              </a:rPr>
              <a:t>健康維護</a:t>
            </a:r>
            <a:r>
              <a:rPr b="1" lang="zh-TW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能依順序完成健康檢查的項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能說出對身體健康的食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4"/>
          <p:cNvSpPr/>
          <p:nvPr/>
        </p:nvSpPr>
        <p:spPr>
          <a:xfrm>
            <a:off x="228600" y="478800"/>
            <a:ext cx="8381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spcBef>
                <a:spcPts val="726"/>
              </a:spcBef>
              <a:buClr>
                <a:srgbClr val="7b98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7b9899"/>
                </a:solidFill>
                <a:latin typeface="Georgia"/>
                <a:ea typeface="微軟正黑體"/>
              </a:rPr>
              <a:t>設計在「計畫性活動」中</a:t>
            </a:r>
            <a:r>
              <a:rPr b="1" lang="en-US" sz="2900" spc="-1" strike="noStrike">
                <a:solidFill>
                  <a:srgbClr val="7b9899"/>
                </a:solidFill>
                <a:latin typeface="Georgia"/>
                <a:ea typeface="微軟正黑體"/>
              </a:rPr>
              <a:t>—</a:t>
            </a:r>
            <a:r>
              <a:rPr b="1" lang="zh-TW" sz="2900" spc="-1" strike="noStrike">
                <a:solidFill>
                  <a:srgbClr val="7b9899"/>
                </a:solidFill>
                <a:latin typeface="Georgia"/>
                <a:ea typeface="微軟正黑體"/>
              </a:rPr>
              <a:t>主題活動設計範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360360" y="1968480"/>
          <a:ext cx="8305920" cy="4282920"/>
        </p:xfrm>
        <a:graphic>
          <a:graphicData uri="http://schemas.openxmlformats.org/drawingml/2006/table">
            <a:tbl>
              <a:tblPr/>
              <a:tblGrid>
                <a:gridCol w="838080"/>
                <a:gridCol w="6573960"/>
                <a:gridCol w="89388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短期目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分標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人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溝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會在適當情境中使用活動圖卡回答問題（毅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會使用手勢表達想法（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會清楚回答他人的問話，使對方聽懂意思（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遇到問題時會主動尋求協助（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會說出保護自己身體不受侵犯的方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種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)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新細明體"/>
                          <a:ea typeface="Times New Roman"/>
                        </a:rPr>
                        <a:t>憲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、昕、渟、蕙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會用適當方式保護自己身體的重要部位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2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種）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新細明體"/>
                          <a:ea typeface="Times New Roman"/>
                        </a:rPr>
                        <a:t>憲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、昕、渟、蕙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文字方塊 1"/>
          <p:cNvSpPr/>
          <p:nvPr/>
        </p:nvSpPr>
        <p:spPr>
          <a:xfrm>
            <a:off x="952200" y="148428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主題名稱</a:t>
            </a:r>
            <a:r>
              <a:rPr b="1" lang="en-US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-</a:t>
            </a:r>
            <a:r>
              <a:rPr b="1" lang="zh-TW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我會保護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1" descr=""/>
          <p:cNvPicPr/>
          <p:nvPr/>
        </p:nvPicPr>
        <p:blipFill>
          <a:blip r:embed="rId1"/>
          <a:stretch/>
        </p:blipFill>
        <p:spPr>
          <a:xfrm>
            <a:off x="3700440" y="1359000"/>
            <a:ext cx="75564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7-24T08:46:56Z</dcterms:modified>
  <cp:revision>2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